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8023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8023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e8e4fc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1280" indent="-25128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1360" indent="-2667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72432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82692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9298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9298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929880">
              <a:lnSpc>
                <a:spcPct val="12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46.xml"/><Relationship Id="rId11" Type="http://schemas.openxmlformats.org/officeDocument/2006/relationships/slide" Target="slide46.xml"/><Relationship Id="rId12" Type="http://schemas.openxmlformats.org/officeDocument/2006/relationships/slide" Target="slide46.xml"/><Relationship Id="rId13" Type="http://schemas.openxmlformats.org/officeDocument/2006/relationships/slide" Target="slide61.xml"/><Relationship Id="rId14" Type="http://schemas.openxmlformats.org/officeDocument/2006/relationships/slide" Target="slide61.xml"/><Relationship Id="rId15" Type="http://schemas.openxmlformats.org/officeDocument/2006/relationships/slide" Target="slide61.xml"/><Relationship Id="rId16" Type="http://schemas.openxmlformats.org/officeDocument/2006/relationships/slide" Target="slide61.xml"/><Relationship Id="rId17" Type="http://schemas.openxmlformats.org/officeDocument/2006/relationships/slide" Target="slide72.xml"/><Relationship Id="rId18" Type="http://schemas.openxmlformats.org/officeDocument/2006/relationships/slide" Target="slide72.xml"/><Relationship Id="rId19" Type="http://schemas.openxmlformats.org/officeDocument/2006/relationships/slide" Target="slide72.xml"/><Relationship Id="rId20" Type="http://schemas.openxmlformats.org/officeDocument/2006/relationships/slide" Target="slide87.xml"/><Relationship Id="rId21" Type="http://schemas.openxmlformats.org/officeDocument/2006/relationships/slide" Target="slide87.xml"/><Relationship Id="rId22" Type="http://schemas.openxmlformats.org/officeDocument/2006/relationships/slide" Target="slide87.xml"/><Relationship Id="rId23" Type="http://schemas.openxmlformats.org/officeDocument/2006/relationships/slide" Target="slide87.xml"/><Relationship Id="rId2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7.xml"/><Relationship Id="rId3" Type="http://schemas.openxmlformats.org/officeDocument/2006/relationships/slide" Target="slide50.xm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" Target="slide4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2.xml"/><Relationship Id="rId3" Type="http://schemas.openxmlformats.org/officeDocument/2006/relationships/slide" Target="slide66.xml"/><Relationship Id="rId4" Type="http://schemas.openxmlformats.org/officeDocument/2006/relationships/slide" Target="slide66.xml"/><Relationship Id="rId5" Type="http://schemas.openxmlformats.org/officeDocument/2006/relationships/slide" Target="slide70.xml"/><Relationship Id="rId6" Type="http://schemas.openxmlformats.org/officeDocument/2006/relationships/slide" Target="slide70.xml"/><Relationship Id="rId7" Type="http://schemas.openxmlformats.org/officeDocument/2006/relationships/slide" Target="slide71.xml"/><Relationship Id="rId8" Type="http://schemas.openxmlformats.org/officeDocument/2006/relationships/slide" Target="slide71.xml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61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6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3.xml"/><Relationship Id="rId3" Type="http://schemas.openxmlformats.org/officeDocument/2006/relationships/slide" Target="slide77.xml"/><Relationship Id="rId4" Type="http://schemas.openxmlformats.org/officeDocument/2006/relationships/slide" Target="slide80.xml"/><Relationship Id="rId5" Type="http://schemas.openxmlformats.org/officeDocument/2006/relationships/slide" Target="slide80.xml"/><Relationship Id="rId6" Type="http://schemas.openxmlformats.org/officeDocument/2006/relationships/slide" Target="slide80.xml"/><Relationship Id="rId7" Type="http://schemas.openxmlformats.org/officeDocument/2006/relationships/slide" Target="slide80.xml"/><Relationship Id="rId8" Type="http://schemas.openxmlformats.org/officeDocument/2006/relationships/slide" Target="slide84.xml"/><Relationship Id="rId9" Type="http://schemas.openxmlformats.org/officeDocument/2006/relationships/slide" Target="slide84.xml"/><Relationship Id="rId10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章  文件编辑与管理软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1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解压缩软件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WinZi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2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解压缩软件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WinR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3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文本编辑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EditPl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4.4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文本编辑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UltraEdi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4.5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文件分割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FileSplit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 2.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4.6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文件加密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WinXFil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4.7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万能加密器——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Easycode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 Boy Plus!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．快捷方式</a:t>
            </a:r>
            <a:r>
              <a:rPr b="1" lang="zh-CN" sz="3200" spc="-1" strike="noStrike">
                <a:solidFill>
                  <a:srgbClr val="cc66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-7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至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-8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3309840" y="29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winzip6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782040" cy="2457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9600" y="5410080"/>
            <a:ext cx="187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捷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7.4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文件分割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分割”选项卡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打开”按钮，打开“打开”文件对话框，选择需要分割的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浏览”按钮，打开“浏览文件夹”对话框，选择分割后的文件保存的文件夹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分割文件有关的选项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开始分割”按钮完成分割操作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410" name=""/>
          <p:cNvSpPr/>
          <p:nvPr/>
        </p:nvSpPr>
        <p:spPr>
          <a:xfrm>
            <a:off x="302436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文件加密26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324480" cy="40672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197160" y="5715000"/>
            <a:ext cx="246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6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割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414" name=""/>
          <p:cNvSpPr/>
          <p:nvPr/>
        </p:nvSpPr>
        <p:spPr>
          <a:xfrm>
            <a:off x="2871720" y="3057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文件加密27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696440" cy="1681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529720" y="4952880"/>
            <a:ext cx="367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割后的文件及其批处理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89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7.5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伪装目录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302436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文件加密2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5867280" cy="3773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352680" y="5715000"/>
            <a:ext cx="203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装目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8132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7.6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密码管理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打开如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7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示的“密码管理”选项卡。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左边的文本框中输入标题（用于记录加密的文件）、账户、密码等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单击“添加”按钮则将输入的数据添加到右边的密码列表中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单击“保存数据库”按钮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code Boy Plus!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在文件夹中保存密码数据库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单击“备份数据库”按钮可以将密码数据库在其他文件夹下保存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如要装入密码数据库，可以单击“恢复数据库”按钮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427" name=""/>
          <p:cNvSpPr/>
          <p:nvPr/>
        </p:nvSpPr>
        <p:spPr>
          <a:xfrm>
            <a:off x="302436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文件加密25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90960" cy="37245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939400" y="5562720"/>
            <a:ext cx="2747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70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密码管理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7.7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设置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  <a:ea typeface="黑体"/>
              </a:rPr>
              <a:t>Easycode Boy Plus!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32" name=""/>
          <p:cNvSpPr/>
          <p:nvPr/>
        </p:nvSpPr>
        <p:spPr>
          <a:xfrm>
            <a:off x="302436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文件加密29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3382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43200" y="533412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71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Times New Roman"/>
              <a:ea typeface="宋体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Thank you very much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"/>
          <p:cNvSpPr/>
          <p:nvPr/>
        </p:nvSpPr>
        <p:spPr>
          <a:xfrm>
            <a:off x="2745000" y="2590920"/>
            <a:ext cx="338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到此结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谢谢您的光临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endshow"/>
          </p:cNvPr>
          <p:cNvSpPr/>
          <p:nvPr/>
        </p:nvSpPr>
        <p:spPr>
          <a:xfrm>
            <a:off x="7010280" y="6362640"/>
            <a:ext cx="139068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3514680" y="2114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winzip8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398448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840" y="5943600"/>
            <a:ext cx="230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8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1.3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打开已有的压缩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传统方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Zi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打开”工具按钮，打开“压缩文档”对话框，选择好压缩文件后单击“打开”按钮即可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快捷方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资源管理器或“我的电脑”中双击压缩文件名即可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开一个己经存在的压缩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1.4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在压缩文件中添加或删除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向压缩文件添加文件或文件夹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删除压缩文件中的文件或文件夹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1.5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解压缩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传统方式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资源管理器或“我的电脑”中找到需解压的压缩文件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压缩文件上双击鼠标左键，即启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窗口列表显示出所有被压缩的文件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1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选择某个、多个或全部需要解压的文件后单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Zi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工具栏中“解压缩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按钮，打开“解压缩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话框，如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“解压缩”对话框的“解压缩到”框中指定解压后文件保存的文件夹，也可以从“文件夹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ld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驱动器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v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表框中指定文件夹，单击“解压缩”按钮，即可将文件解压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3038400" y="2610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winzip9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3703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10400" y="5486400"/>
            <a:ext cx="241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9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压缩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快捷方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资源管理器或“我的电脑”中选择好要解压缩的文件或文件夹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文件名或文件夹名上单击鼠标右键，打开快捷菜单，指向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Zip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菜单项，展开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各项菜单命令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3591000" y="3043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winzip10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3056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07800" y="5486400"/>
            <a:ext cx="3233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快捷方式解压缩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1.6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生成自解压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压缩文件制作成自解压文件，可脱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Z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自动执行解压并还原原文件。一般操作方法是在资源管理器或“我的电脑”中查找到压缩文件，在压缩文件上单击鼠标右键，单击弹出的快捷菜单中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Zip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下的“建立自解压缩文件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”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即可在所打开的压缩文件位置产生一个同名的自解压文件。自解压文件后缀为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是可执行文件，双击该文件即可执行解压操作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解压缩软件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WinRAR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" action="ppaction://hlinksldjump"/>
              </a:rPr>
              <a:t>4.2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2" action="ppaction://hlinksldjump"/>
              </a:rPr>
              <a:t>压缩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3" action="ppaction://hlinksldjump"/>
              </a:rPr>
              <a:t>4.2.2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4" action="ppaction://hlinksldjump"/>
              </a:rPr>
              <a:t>解压缩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5" action="ppaction://hlinksldjump"/>
              </a:rPr>
              <a:t>4.2.3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6" action="ppaction://hlinksldjump"/>
              </a:rPr>
              <a:t>分卷压缩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7" action="ppaction://hlinksldjump"/>
              </a:rPr>
              <a:t>4.2.4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8" action="ppaction://hlinksldjump"/>
              </a:rPr>
              <a:t>解压缩部分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1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解压缩软件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WinZip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0720" indent="-27072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" action="ppaction://hlinksldjump"/>
              </a:rPr>
              <a:t>4.1.1  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Arial"/>
                <a:hlinkClick r:id="rId2" action="ppaction://hlinksldjump"/>
              </a:rPr>
              <a:t>WinZip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3" action="ppaction://hlinksldjump"/>
              </a:rPr>
              <a:t>界面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4" action="ppaction://hlinksldjump"/>
              </a:rPr>
              <a:t>4.1.2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5" action="ppaction://hlinksldjump"/>
              </a:rPr>
              <a:t>建立新的压缩文件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7" action="ppaction://hlinksldjump"/>
              </a:rPr>
              <a:t>4.1.3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8" action="ppaction://hlinksldjump"/>
              </a:rPr>
              <a:t>打开已有的压缩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9" action="ppaction://hlinksldjump"/>
              </a:rPr>
              <a:t>4.1.4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10" action="ppaction://hlinksldjump"/>
              </a:rPr>
              <a:t>在压缩文件中添加或删除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1" action="ppaction://hlinksldjump"/>
              </a:rPr>
              <a:t>4.1.5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12" action="ppaction://hlinksldjump"/>
              </a:rPr>
              <a:t>解压缩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3" action="ppaction://hlinksldjump"/>
              </a:rPr>
              <a:t>4.1.6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14" action="ppaction://hlinksldjump"/>
              </a:rPr>
              <a:t>生成自解压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>
            <a:hlinkClick r:id="rId15" action="ppaction://hlinksldjump"/>
          </p:cNvPr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3033720" y="2538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winrar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23888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06720" y="5791320"/>
            <a:ext cx="273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R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2.1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压缩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要压缩文件，先用鼠标选择好要压缩的文件（实例为“常用工具软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点一下“添加”按钮，弹出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12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档案文件名字和参数”对话框，其中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档案文件名”：用于输入压缩文件的路径和文件名，可以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wse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定文件名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档案文件类型”：可以选择压缩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，还是压缩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，默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行其他设置后，单击“确定”按钮开始压缩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2.2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解压缩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压缩的过程也非常简单，先选好要解压缩的文件，比如这个“常用工具软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r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然后单击工具栏上的“释放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弹出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“释放路径和选项”对话框，在其中输入或选择要解压缩到的目录，然后单击“确定”按钮，文件就被解压缩到这个目录中了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2.3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分卷压缩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RAR3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很方便的分卷压缩功能，即可以指定每一个压缩包的大小。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话框中有一项“分卷，字节数”，可以在这里指定一个压缩包的大小，这样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会把文件按指定的大小压缩成几个压缩包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3390840" y="23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winrar2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486400" cy="4867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84000" y="5943600"/>
            <a:ext cx="374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2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档案文件名字和参数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3328920" y="2386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winrar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715000" cy="4795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78600" y="5791320"/>
            <a:ext cx="228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压缩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2.4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解压缩部分文件</a:t>
            </a:r>
            <a:br>
              <a:rPr sz="3200"/>
            </a:b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把压缩文件做为一个文件夹来管理，在它的文件列表中，双击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，可以像查看文件夹一样查看压缩文件内部的文件，而且还可以选择这些文件进行解压缩。 其解压缩的方法也很简单，先选定要解压缩的文件，再点一下工具栏上的“释放到”按钮，在弹出的解压缩对话框中选择好要解压的目录，单击“确定”按钮，被选定的文件就被解压缩到指定的目录中了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4.3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文本编辑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EditPlus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3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3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3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色功能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3.1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概述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载安装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预先设置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击桌面的快捷方式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itPlus 2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itPl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3000240" y="2257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文本编辑editplus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4430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53000" y="5791320"/>
            <a:ext cx="262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ditPl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1.1 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WinZip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界面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3290760" y="2619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winzip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346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61200" y="5486400"/>
            <a:ext cx="2567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Z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41" name=""/>
          <p:cNvSpPr/>
          <p:nvPr/>
        </p:nvSpPr>
        <p:spPr>
          <a:xfrm>
            <a:off x="3052800" y="2190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文本编辑editplus1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10080" cy="4410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36080" y="5867280"/>
            <a:ext cx="3466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5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eference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3.2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主要功能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编辑文本文件（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查找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项目方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278136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文本编辑editplus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3694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81040" y="5486400"/>
            <a:ext cx="195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文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3309840" y="2900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文本编辑editplus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68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79240" y="5257800"/>
            <a:ext cx="3585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7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in File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2538360" y="2305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文本编辑editplus4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043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45880" y="579132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找结果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3300480" y="2395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文本编辑editplus5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335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0160" y="5791320"/>
            <a:ext cx="195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057480" y="2386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文本编辑editplus6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61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93240" y="563868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项目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3.3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特色功能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文件剪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网页编辑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自定义快捷键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4071960" y="2200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文本编辑editplus7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2046240" cy="5029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13320" y="2144520"/>
            <a:ext cx="546120" cy="26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剪贴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2919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文本编辑editplus9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400800" cy="296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28960" y="5181480"/>
            <a:ext cx="258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新的剪贴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1.2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建立新的压缩文件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传统方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快捷方式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文本编辑editplus11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00200" y="5715000"/>
            <a:ext cx="5692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的空白剪贴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文本编辑editplus11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10080" cy="3606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13280" y="5562720"/>
            <a:ext cx="3050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新建剪贴库添加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3100320" y="2733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文本编辑editplus1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3384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67160" y="5410080"/>
            <a:ext cx="330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C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2943360" y="2481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文本编辑editplus1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30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127680" y="5791320"/>
            <a:ext cx="278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C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框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95" name=""/>
          <p:cNvSpPr/>
          <p:nvPr/>
        </p:nvSpPr>
        <p:spPr>
          <a:xfrm>
            <a:off x="1947960" y="33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文本编辑editplus1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229600" cy="533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54440" y="4114800"/>
            <a:ext cx="250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网页编辑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2790720" y="2452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文本编辑editplus1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3800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73720" y="5486400"/>
            <a:ext cx="304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4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文本编辑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UltraEdit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" action="ppaction://hlinksldjump"/>
              </a:rPr>
              <a:t>4.4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2" action="ppaction://hlinksldjump"/>
              </a:rPr>
              <a:t>界面介绍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3" action="ppaction://hlinksldjump"/>
              </a:rPr>
              <a:t>4.4.2  主要功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4.1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界面介绍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2509920" y="2390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文本编辑utratext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356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699640" y="5638680"/>
            <a:ext cx="272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9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ltraEd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85960" y="609480"/>
            <a:ext cx="258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具栏按钮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905120" y="1295280"/>
          <a:ext cx="563868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63868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371600" y="1143000"/>
          <a:ext cx="601992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01992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411640" y="609480"/>
            <a:ext cx="313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具栏按钮的作用（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．传统方式</a:t>
            </a:r>
            <a:r>
              <a:rPr b="1" lang="zh-CN" sz="3200" spc="-1" strike="noStrike">
                <a:solidFill>
                  <a:srgbClr val="cc66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194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至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3181320" y="2533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winzip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02920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83800" y="5334120"/>
            <a:ext cx="2960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2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压缩文档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4.2  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主要功能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六进制编辑模式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同时编辑多个文件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多文件的查找和替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保存为项目文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写检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持多种文件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宏功能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持多种字体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3600" indent="-27360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调用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20" name=""/>
          <p:cNvSpPr/>
          <p:nvPr/>
        </p:nvSpPr>
        <p:spPr>
          <a:xfrm>
            <a:off x="3143160" y="27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文本编辑utratext4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3614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40960" y="541008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多个文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2281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文本编辑utratext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4543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21840" y="563868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多个文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28" name=""/>
          <p:cNvSpPr/>
          <p:nvPr/>
        </p:nvSpPr>
        <p:spPr>
          <a:xfrm>
            <a:off x="3390840" y="2757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文本编辑utratext3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553080" cy="3726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77800" y="5410080"/>
            <a:ext cx="3103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2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2676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文本编辑utratext5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095880" cy="376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37160" y="5486400"/>
            <a:ext cx="461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3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y Project Fil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36" name=""/>
          <p:cNvSpPr/>
          <p:nvPr/>
        </p:nvSpPr>
        <p:spPr>
          <a:xfrm>
            <a:off x="3371760" y="2800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文本编辑utratext6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715000" cy="299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073960" y="5105520"/>
            <a:ext cx="3914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4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eck Spellin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200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文本编辑utratext7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248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913400" y="5715000"/>
            <a:ext cx="423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5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Association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9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文本编辑utratext8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324480" cy="3614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74480" y="518148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文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3538440" y="2681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文本编辑utratext9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486400" cy="3968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81040" y="5486400"/>
            <a:ext cx="195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调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52" name=""/>
          <p:cNvSpPr/>
          <p:nvPr/>
        </p:nvSpPr>
        <p:spPr>
          <a:xfrm>
            <a:off x="3471840" y="2752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文本编辑utratext11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934320" cy="4262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99080" y="563868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8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S Comman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3147840" y="1986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inzip3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211640" cy="426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63000" y="5638680"/>
            <a:ext cx="253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待压缩的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56" name=""/>
          <p:cNvSpPr/>
          <p:nvPr/>
        </p:nvSpPr>
        <p:spPr>
          <a:xfrm>
            <a:off x="3324240" y="2790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文本编辑utratext10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664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104200" y="5486400"/>
            <a:ext cx="42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39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mand Outpu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5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文件分割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FileSplit 2.2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" action="ppaction://hlinksldjump"/>
              </a:rPr>
              <a:t>4.5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2" action="ppaction://hlinksldjump"/>
              </a:rPr>
              <a:t>分割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3" action="ppaction://hlinksldjump"/>
              </a:rPr>
              <a:t>4.5.2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4" action="ppaction://hlinksldjump"/>
              </a:rPr>
              <a:t>还原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5" action="ppaction://hlinksldjump"/>
              </a:rPr>
              <a:t>4.5.3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6" action="ppaction://hlinksldjump"/>
              </a:rPr>
              <a:t>比较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7" action="ppaction://hlinksldjump"/>
              </a:rPr>
              <a:t>4.5.4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8" action="ppaction://hlinksldjump"/>
              </a:rPr>
              <a:t>高级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5.1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分割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选择要分割的文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选择分割后文件存储位置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分割文件选项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开始分割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3362400" y="2300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文件分割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181840" cy="4835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699280" y="5791320"/>
            <a:ext cx="264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Spl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70" name=""/>
          <p:cNvSpPr/>
          <p:nvPr/>
        </p:nvSpPr>
        <p:spPr>
          <a:xfrm>
            <a:off x="3195720" y="2400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文件分割2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5867640" cy="4384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640960" y="571500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分割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74" name=""/>
          <p:cNvSpPr/>
          <p:nvPr/>
        </p:nvSpPr>
        <p:spPr>
          <a:xfrm>
            <a:off x="2943360" y="2610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文件分割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05720" cy="3371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412360" y="5257800"/>
            <a:ext cx="231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离后的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5.2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还原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运行批处理文件还原文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卡中还原文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2548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文件分割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3370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279600" y="5334120"/>
            <a:ext cx="203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3295800" y="2238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文件分割6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118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759760" y="5943600"/>
            <a:ext cx="291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4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289" name=""/>
          <p:cNvSpPr/>
          <p:nvPr/>
        </p:nvSpPr>
        <p:spPr>
          <a:xfrm>
            <a:off x="3076560" y="2314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文件分割5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486400" cy="4087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795400" y="5562720"/>
            <a:ext cx="298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S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还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3090960" y="3038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winzip7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162920" cy="1888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94720" y="4419720"/>
            <a:ext cx="1697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警示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5.3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比较文件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界面上最后一个选项卡是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3476520" y="2405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文件分割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809880" cy="3560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900600" y="3057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文件分割8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276720" cy="1812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84360" y="6248520"/>
            <a:ext cx="2184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12160" y="5181480"/>
            <a:ext cx="324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7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Spli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5.4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高级设置</a:t>
            </a:r>
            <a:br>
              <a:rPr sz="3200"/>
            </a:b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3071880" y="2519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文件分割9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095880" cy="3695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52440" y="5486400"/>
            <a:ext cx="195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6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文件加密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WinXFiles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" action="ppaction://hlinksldjump"/>
              </a:rPr>
              <a:t>4.6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2" action="ppaction://hlinksldjump"/>
              </a:rPr>
              <a:t>加密操作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hlinkClick r:id="rId3" action="ppaction://hlinksldjump"/>
              </a:rPr>
              <a:t>4.6.2  解密操作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 Narrow"/>
                <a:hlinkClick r:id="rId4" action="ppaction://hlinksldjump"/>
              </a:rPr>
              <a:t>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5" action="ppaction://hlinksldjump"/>
              </a:rPr>
              <a:t>4.6.3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6" action="ppaction://hlinksldjump"/>
              </a:rPr>
              <a:t>删除操作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4.6.4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浏览加密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6.1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加密操作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中“加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密”选项卡，单击“加密”选项，并在左上文件路径列表框里选择文件类型、路径，则左下的文件列表框中显示文件名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添加”按钮将选中的文件添加到右边的加密窗口中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文件添加完毕，单击“确定”按钮，此时会弹出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“加密”对话框，根据提示操作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3009960" y="2295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文件加密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15000" cy="4146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776680" y="5638680"/>
            <a:ext cx="292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49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XFi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17" name=""/>
          <p:cNvSpPr/>
          <p:nvPr/>
        </p:nvSpPr>
        <p:spPr>
          <a:xfrm>
            <a:off x="3100320" y="2362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文件加密3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172200" cy="4473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79600" y="5715000"/>
            <a:ext cx="203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密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2695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文件加密4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029200" cy="4400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451600" y="5715000"/>
            <a:ext cx="228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密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6.2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解密操作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中“加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密”选项卡，单击“解密”选项，选择解密文件的操作和选择加密文件的操作相似，只不过这里选择的文件扩展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f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f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按钮，弹出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“解密”对话框。输入正确的密码后，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完成解密操作，文件恢复到原来的类型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28" name=""/>
          <p:cNvSpPr/>
          <p:nvPr/>
        </p:nvSpPr>
        <p:spPr>
          <a:xfrm>
            <a:off x="2967120" y="2266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文件加密5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45244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352680" y="5791320"/>
            <a:ext cx="203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密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32" name=""/>
          <p:cNvSpPr/>
          <p:nvPr/>
        </p:nvSpPr>
        <p:spPr>
          <a:xfrm>
            <a:off x="3691080" y="2914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文件加密6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172200" cy="3603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91240" y="5334120"/>
            <a:ext cx="228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密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3219480" y="2709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winzip4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01992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59760" y="5486400"/>
            <a:ext cx="2960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看上次输出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6.3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删除操作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删除操作步骤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中“加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密”选项卡，单击“擦除”选项，在文件列表框中选择要删除的文件，为了避免错误地删除有用的图片文件，最好选中“预览要加密的图片”复选项，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将文件添加到“擦除”窗口中。参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确定”按钮，弹出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PSOFT WinXfiles Blowfish v 5.0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要确认擦除，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39" name=""/>
          <p:cNvSpPr/>
          <p:nvPr/>
        </p:nvSpPr>
        <p:spPr>
          <a:xfrm>
            <a:off x="2871720" y="2200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文件加密9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4626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354120" y="5715000"/>
            <a:ext cx="195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43" name=""/>
          <p:cNvSpPr/>
          <p:nvPr/>
        </p:nvSpPr>
        <p:spPr>
          <a:xfrm>
            <a:off x="3529080" y="3038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文件加密10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2396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002040" y="5029200"/>
            <a:ext cx="258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认擦除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47" name=""/>
          <p:cNvSpPr/>
          <p:nvPr/>
        </p:nvSpPr>
        <p:spPr>
          <a:xfrm>
            <a:off x="4129200" y="3014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文件加密1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809880" cy="3564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508480" y="5410080"/>
            <a:ext cx="265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文件消息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6.4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浏览加密文件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放映图片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使用浏览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54" name=""/>
          <p:cNvSpPr/>
          <p:nvPr/>
        </p:nvSpPr>
        <p:spPr>
          <a:xfrm>
            <a:off x="305280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文件加密1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791320" cy="4194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273120" y="5562720"/>
            <a:ext cx="203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放映图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58" name=""/>
          <p:cNvSpPr/>
          <p:nvPr/>
        </p:nvSpPr>
        <p:spPr>
          <a:xfrm>
            <a:off x="2967120" y="2266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文件加密1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172200" cy="4469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274920" y="5562720"/>
            <a:ext cx="195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浏览图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7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万能加密器——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Easycode Boy Plus!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7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加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解密文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7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将文件编译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自解密文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7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嵌入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7.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件分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7.5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伪装目录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7.6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密码管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7.7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设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code Boy Plus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6384960"/>
            <a:ext cx="15048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Easycode Boy Plus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code Boy Plus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功能强大的小巧高速加密软件，加密文件大小不限、文件类型不限。采用高速算法，加密速度快，安全性能高。界面美观，有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密列表功能。独有的密码查询功能，忘记密码不再发愁。还可以将加密文件编译为可执行文件，脱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BO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独立运行，并可对自解密文件进行分割。可以对程序设置访问密码，具有更高安全性，拥有加密历史列表功能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Easycode Boy Plus!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软件的特点：</a:t>
            </a:r>
            <a:r>
              <a:rPr b="1" lang="zh-CN" sz="3200" spc="-1" strike="noStrike">
                <a:solidFill>
                  <a:srgbClr val="cc66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持加密、解密列表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有的密码查询功能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持多种打开文件方式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、解密速度快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持自解密文件的分割功能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绿色软件，单独可执行文件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持任意文件、任意目录的拖放操作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0720" indent="-27072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割文件，伪装文件夹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69" name=""/>
          <p:cNvSpPr/>
          <p:nvPr/>
        </p:nvSpPr>
        <p:spPr>
          <a:xfrm>
            <a:off x="3181320" y="2552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winzip5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324840" cy="3984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98160" y="5638680"/>
            <a:ext cx="216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缩文件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4.7.1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加密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/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解密文件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　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加密文件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5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加密”选项卡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添加文件”按钮，打开“打开”文件对话框，选择需要加密的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重复上一步骤，添加其他需要加密的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输入密码并确认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开始加密”完成加密操作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2847960" y="23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文件加密10-1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424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612080" y="5638680"/>
            <a:ext cx="538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59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sycode Boy Plus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密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194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解密文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密操作步骤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-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解密”选项卡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添加文件”按钮，打开“打开”文件对话框，选择需要解密的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重复上一步骤，添加其他需要解密的文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输入密码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开始解密”完成解密操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78" name=""/>
          <p:cNvSpPr/>
          <p:nvPr/>
        </p:nvSpPr>
        <p:spPr>
          <a:xfrm>
            <a:off x="2847960" y="23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文件加密13-1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4346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110400" y="5562720"/>
            <a:ext cx="2135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密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4.7.2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将文件编译为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  <a:ea typeface="黑体"/>
              </a:rPr>
              <a:t>EXE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自解密文件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编译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解密文件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运行自解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-6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2590920" y="2157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文件加密15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77120" cy="4157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579760" y="5562720"/>
            <a:ext cx="314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1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89" name=""/>
          <p:cNvSpPr/>
          <p:nvPr/>
        </p:nvSpPr>
        <p:spPr>
          <a:xfrm>
            <a:off x="3753000" y="3143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文件加密15-2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2525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846520" y="5029200"/>
            <a:ext cx="258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解密文件图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393" name=""/>
          <p:cNvSpPr/>
          <p:nvPr/>
        </p:nvSpPr>
        <p:spPr>
          <a:xfrm>
            <a:off x="3691080" y="2957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文件加密16-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867280" cy="3139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849760" y="5486400"/>
            <a:ext cx="258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自解密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7.3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文件嵌入 </a:t>
            </a:r>
            <a:endParaRPr b="1" lang="en-US" sz="3200" spc="-1" strike="noStrike">
              <a:solidFill>
                <a:srgbClr val="cc66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文件嵌入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释放文件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>
            <a:off x="302436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文件加密19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562720" cy="3578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116800" y="6019920"/>
            <a:ext cx="401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4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嵌入”选项卡——嵌入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cc6600"/>
              </a:solidFill>
              <a:latin typeface="Arial Narrow"/>
              <a:ea typeface="宋体"/>
            </a:endParaRPr>
          </a:p>
        </p:txBody>
      </p:sp>
      <p:sp>
        <p:nvSpPr>
          <p:cNvPr id="403" name=""/>
          <p:cNvSpPr/>
          <p:nvPr/>
        </p:nvSpPr>
        <p:spPr>
          <a:xfrm>
            <a:off x="302436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文件加密19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943600" cy="3822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269080" y="5715000"/>
            <a:ext cx="408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-65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嵌入”选项卡——释放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6:40:38Z</dcterms:modified>
  <cp:revision>109</cp:revision>
  <dc:subject/>
  <dc:title>Module 7: Designing a Multiple Domain Structure</dc:title>
</cp:coreProperties>
</file>